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AB7C-80E7-444E-9B82-819C1808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325-6624-4EFC-A402-C14E5326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1F1-41FC-456B-BAD9-6FD6916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7CF-97DA-46CA-B7FD-D26DFC72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FE93-0B75-499F-B554-96C87F307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D91-708A-46DD-9108-9A3334FF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8A6-1F3D-471F-AF25-B792ACB7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5D0-4C68-464C-AE12-96F294A8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DF8-BA0A-466B-8D3B-E93FFEAF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3EDF-F8B1-41B9-AC43-082002C4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C29-4E87-40EA-87F3-F48325EE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534-BECA-402A-8294-1E46529D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036C-6F11-4C6B-B746-0B06C6F6749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4708-E177-4ADF-9D2F-9949589465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Fiber 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mode Graded-Index Fi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le higher bandwidths and/or longer lengths of transmission before pulse dispersion effects destroy intelligibility and introduce bit err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ngle-Mode Fib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s only low-order mode allowing operation in high-data-rate, long-distance system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ith high-power, highly directional modulated light sources (lase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munications Industry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2: Multimode Classifications (by the Refractive Index Profile and Composi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2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Multimode Classifications (by the Refractive Index Profile and Composition)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4" descr="tab16_02.jpg"/>
          <p:cNvPicPr/>
          <p:nvPr/>
        </p:nvPicPr>
        <p:blipFill>
          <a:blip r:embed="rId1"/>
          <a:stretch/>
        </p:blipFill>
        <p:spPr>
          <a:xfrm>
            <a:off x="228600" y="1631880"/>
            <a:ext cx="868680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communications Industry Asso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Verdana"/>
              </a:rPr>
              <a:t>See Table 16-3: Single-Mode Classific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3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ingle-Mode Classifica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2" descr="tab16_03.jpg"/>
          <p:cNvPicPr/>
          <p:nvPr/>
        </p:nvPicPr>
        <p:blipFill>
          <a:blip r:embed="rId1"/>
          <a:stretch/>
        </p:blipFill>
        <p:spPr>
          <a:xfrm>
            <a:off x="228600" y="1830240"/>
            <a:ext cx="8686800" cy="30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tional Electrotechnical Com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4: Generalized Comparisons of Single-Mode and Multimode Fi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4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Generalized Comparisons of Single-Mode and Multimode Fiber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2" descr="tab16_04.jpg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2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lass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tic Optical Fi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d in short-range marke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s of power introduced by fib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s from combination of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attering, absorption, macrobending, microbend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-optic communications system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-optic transmission str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of invisible infrared ra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sensitive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icient optical connectors at light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broadening; light pulse spreads out in time as it propagates along fiber str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5: Dispersion Values for Common Optical Wavelengths for Class IVa Fi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5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Dispersion Values for Common Optical Wavelengths for Class IVa Fiber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2" descr="tab16_05.jpg"/>
          <p:cNvPicPr/>
          <p:nvPr/>
        </p:nvPicPr>
        <p:blipFill>
          <a:blip r:embed="rId1"/>
          <a:stretch/>
        </p:blipFill>
        <p:spPr>
          <a:xfrm>
            <a:off x="457200" y="1878120"/>
            <a:ext cx="822960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dominantly in multimode fib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romat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gle-mode and multimode fib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arization m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ngle-mode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Attenuation and Disp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 Compens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s like equalizer, negative dispersion canceling positive disper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ode laser (D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for moderate-band to wideband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for single-mode fiber; LEDs have low input coupling effici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aper; less-complex driving circuitry than D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th LEDs and DLs multilayer devic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 emitted from ED result of recombining of electrons and ho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ng the Light Sou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-optic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pulse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mediate Compon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anching de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lit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pl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length division multiplex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-line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c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pplications: detector i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-i-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i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lanche photodiode also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Compon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c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cur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e spe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al respon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7: A Comparison of Det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tages of Optical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emely wide system bandwid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unity to electrostatic interfe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mination of cross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signal attenuation than other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antially lighter weight and smaller 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7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A Comparison of Detector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tab16_07.jpg"/>
          <p:cNvPicPr/>
          <p:nvPr/>
        </p:nvPicPr>
        <p:blipFill>
          <a:blip r:embed="rId1"/>
          <a:stretch/>
        </p:blipFill>
        <p:spPr>
          <a:xfrm>
            <a:off x="228600" y="603360"/>
            <a:ext cx="8686800" cy="52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Connections and Splic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tical fiber ultrapure glass; joined in permanent fusion splice or with connecto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usion splic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-term method; two fibers fused or welded toge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ber Connections and Splic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chanical spl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manent/economical choice for fiber-splicing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Connector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6-8: General Fiber Connector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8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General Fiber Connector Requiremen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2" descr="tab16_08.jpg"/>
          <p:cNvPicPr/>
          <p:nvPr/>
        </p:nvPicPr>
        <p:blipFill>
          <a:blip r:embed="rId1"/>
          <a:stretch/>
        </p:blipFill>
        <p:spPr>
          <a:xfrm>
            <a:off x="228600" y="2097000"/>
            <a:ext cx="8686800" cy="26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stem Design and Operational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ng-haul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channel density and bit rate, highly reliable, incorporate redundant equipment, extensive engineering stud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l-area networks (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channel capacity and minimal redundance; prespecified and preengineered as to length, bit-rate capability,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ystem Design and Operational Iss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-mode, long-haul, high-bit-rate consi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bling and Constr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ior (Outdoor) Instal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 install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les, underground in ducts, utility tunnels, direct burial; be aware of exposur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ior (Indoor) Instal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 well control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abling and Constr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sting the Fiber Instal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time-domain reflectometer (OTD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nds light pulse down fiber; measures reflected lig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Networ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ng Optical Net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optical network (SON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ndard for long-haul optical transport of telecommunications d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9: SONET Hierarchy Data R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9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SONET Hierarchy Data Rat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3" descr="tab16_09.jpg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tages of Optical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er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o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Networ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ng Optical Network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ber to the home (FTTH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st-effective way to provide large-bandwidth capabilities to h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6-10: Ethernet/Fiber Numeri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6-10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Ethernet/Fiber Numeric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2" descr="tab16_10.jpg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Network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r Fi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agation of laser energy through atmosphere, a line-of-sight technique uses parabolic lens to focus laser energy in narrow be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ber Distributed Data Interfa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n National Standards Institute (ANSI) developed Fiber Distributed Data Interface (FDDI); utilizes two 100-Mbps token-passing ring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light propagates through fiber, factors will attenuate light if there is an open or brea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ware of eye dama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ctors can increase optical power at exposed fiber en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fe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fety factors for both fiber optic equipment and the mechanic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all cases, be sure craft personnel have proper training for the job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should be able t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aw a fiber link showing all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the optical power me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rise-time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oubleshoot fiber-optic data lin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raction of l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duction as light passes into denser material; causes light wave to be b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ed reduction and refraction different for each wavelength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isible light striking pri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raction at both air/glass interfaces; separates light into its various frequencies (color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ount of bend by refraction depends on refractive index of two materials involv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frared light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light waves below frequencies in visible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tical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ies from infrared on u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Nature of Lig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truction of the Fiber Str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s transmitted lig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d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terial surrounding co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stic coating surrounds cladding to provide pro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ptical Fib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iteria for Choice of Fiber Typ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losses, with respect to dis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e of light coupling and interconn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mode Step-Index Fi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rely used in telecommunications; very high amounts of pulse dispersion; minimal bandwidth capabil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59:58Z</dcterms:modified>
  <cp:revision>4</cp:revision>
  <dc:subject/>
  <dc:title>Slide 1</dc:title>
</cp:coreProperties>
</file>